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703-3C08-4E25-9FAA-DB75B001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6D8-B989-4061-BE1C-3289ABBB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E9E-C8BE-43C4-A65B-F4147982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070-BF64-4C35-8371-500442C0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FBC-5BF0-4583-A489-288DC699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5C2-DC23-4D8D-A7B1-B88F206E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C763-D7B6-4E97-8C15-C477BA5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FDC-724E-434C-B249-DBDC316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F71-19B7-4232-9068-10C935F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401-5BA7-45AE-88F6-48BB68A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39C-787C-4D7B-9EF9-9120E0B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9D0-3C02-444D-8837-91AD86A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7C55-4436-4A22-9BCA-1C928B18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mgames.eu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814560" cy="489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810240" cy="4891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0" y="76500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NIEUW: binnenkort verkrijgba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360" y="2349360"/>
            <a:ext cx="2575080" cy="259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14720" y="2349360"/>
            <a:ext cx="257652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75080" y="2349360"/>
            <a:ext cx="257652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34000" y="2349360"/>
            <a:ext cx="257508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Image"/>
          <p:cNvPicPr/>
          <p:nvPr/>
        </p:nvPicPr>
        <p:blipFill>
          <a:blip r:embed="rId5"/>
          <a:stretch/>
        </p:blipFill>
        <p:spPr>
          <a:xfrm>
            <a:off x="684360" y="36450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900000" y="1557360"/>
            <a:ext cx="480960" cy="71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851280" y="979560"/>
            <a:ext cx="3219480" cy="490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050920" y="4076640"/>
            <a:ext cx="1743120" cy="275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7164360" y="4076640"/>
            <a:ext cx="1743120" cy="2762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44800" y="974880"/>
            <a:ext cx="3248280" cy="491472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2913 C 0.00678 0.09572 0.02935 0.14358 0.05209 0.14358 C 0.07483 0.14358 0.09462 0.09572 0.10157 0.02913 C 0.11112 0.09572 0.13039 0.14358 0.15365 0.14358 C 0.17639 0.14358 0.19619 0.09572 0.20244 0.02913 C 0.21216 0.09572 0.23195 0.14358 0.25469 0.14358 C 0.27796 0.14358 0.3007 0.09572 0.30695 0.02913 C 0.31372 0.09572 0.33369 0.14358 0.35973 0.14358 C 0.379 0.14358 0.40174 0.09572 0.40851 0.02913 C 0.41528 0.09572 0.43803 0.14358 0.46077 0.14358 C 0.48334 0.14358 0.5033 0.09572 0.51007 0.02913 C 0.5198 0.09572 0.53907 0.14358 0.56233 0.14358 C 0.58507 0.14358 0.60487 0.09572 0.61459 0.02913 C 0.62084 0.09572 0.64063 0.14358 0.66337 0.14358 C 0.68664 0.14358 0.70921 0.09572 0.71546 0.02913 C 0.7224 0.09572 0.74219 0.14358 0.76823 0.14358 C 0.79098 0.14358 0.81025 0.09572 0.81719 0.02913 E">
                                      <p:cBhvr>
                                        <p:cTn id="68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78035E-008 C 0.00573 0.06543 0.02552 0.11237 0.04514 0.11237 C 0.06476 0.11237 0.08195 0.06543 0.08785 -5.78035E-008 C 0.09618 0.06543 0.11285 0.11237 0.13299 0.11237 C 0.15261 0.11237 0.16979 0.06543 0.17517 -5.78035E-008 C 0.18351 0.06543 0.2007 0.11237 0.22031 0.11237 C 0.24045 0.11237 0.26007 0.06543 0.26545 -5.78035E-008 C 0.27136 0.06543 0.28854 0.11237 0.31111 0.11237 C 0.32778 0.11237 0.3474 0.06543 0.3533 -5.78035E-008 C 0.3592 0.06543 0.37882 0.11237 0.39844 0.11237 C 0.41806 0.11237 0.43524 0.06543 0.44115 -5.78035E-008 C 0.44948 0.06543 0.46615 0.11237 0.48629 0.11237 C 0.5059 0.11237 0.52309 0.06543 0.53142 -5.78035E-008 C 0.53681 0.06543 0.55399 0.11237 0.57361 0.11237 C 0.59375 0.11237 0.61337 0.06543 0.61875 -5.78035E-008 C 0.62465 0.06543 0.64184 0.11237 0.66441 0.11237 C 0.68403 0.11237 0.70087 0.06543 0.70677 -5.78035E-008 E">
                                      <p:cBhvr>
                                        <p:cTn id="7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57 0.01873 C 0.23143 0.09757 0.24775 0.15422 0.26407 0.15422 C 0.28056 0.15422 0.2948 0.09757 0.29983 0.01873 C 0.30678 0.09757 0.32066 0.15422 0.3375 0.15422 C 0.354 0.15422 0.36823 0.09757 0.37275 0.01873 C 0.37987 0.09757 0.3941 0.15422 0.4106 0.15422 C 0.42744 0.15422 0.44375 0.09757 0.44827 0.01873 C 0.45313 0.09757 0.46754 0.15422 0.48629 0.15422 C 0.50035 0.15422 0.51667 0.09757 0.52171 0.01873 C 0.52657 0.09757 0.54289 0.15422 0.55938 0.15422 C 0.5757 0.15422 0.59011 0.09757 0.59497 0.01873 C 0.60209 0.09757 0.61598 0.15422 0.63282 0.15422 C 0.64914 0.15422 0.66355 0.09757 0.67049 0.01873 C 0.675 0.09757 0.68941 0.15422 0.70573 0.15422 C 0.72257 0.15422 0.73907 0.09757 0.74358 0.01873 C 0.74844 0.09757 0.76268 0.15422 0.7816 0.15422 C 0.79792 0.15422 0.81198 0.09757 0.81702 0.01873 E">
                                      <p:cBhvr>
                                        <p:cTn id="79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000"/>
                            </p:stCondLst>
                            <p:childTnLst>
                              <p:par>
                                <p:cTn id="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2064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PMgames, your puzzle is our solu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1920" y="621180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Mgames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3084480" cy="3961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92720" y="1989000"/>
            <a:ext cx="3079800" cy="395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15:22Z</dcterms:created>
  <dc:creator>Anton van Aar</dc:creator>
  <dc:description/>
  <dc:language>en-US</dc:language>
  <cp:lastModifiedBy>Anton van Aar</cp:lastModifiedBy>
  <dcterms:modified xsi:type="dcterms:W3CDTF">2008-05-01T14:46:35Z</dcterms:modified>
  <cp:revision>9</cp:revision>
  <dc:subject/>
  <dc:title>Dia 1</dc:title>
</cp:coreProperties>
</file>